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CD57-2674-4B1C-A250-BD23DE001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8ECA-70F2-403D-A907-BE237E4C1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90AE-BA7B-4C28-9D29-1387E9066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CE4E-0D7A-49EB-B1C4-59A6BCF0F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9BE2-5B5D-474E-A693-1EF6C6FAC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FBE2-C988-4C9B-9AEE-B45BA4FC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CEBD-7184-49B8-A7E0-1808DEA4E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5E60-3CBD-468F-B0AE-959FA6DED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161C-571A-429C-A445-E58CC27E9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C9D2-11FD-405C-BFFA-60CE4E8E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428B-BE45-4C36-BC66-5943E851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B483-9EAF-417C-8EA3-05DAA20C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D11B0-F537-48B8-A8EB-1F2F72020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4wp3m1vg06Q" TargetMode="Externa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160" y="57240"/>
            <a:ext cx="9105840" cy="6572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2209680"/>
            <a:ext cx="28958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4648320"/>
            <a:ext cx="6324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76520" y="5029200"/>
            <a:ext cx="61722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ier 1 – Univers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o (teacher)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% Student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95480" y="2819520"/>
            <a:ext cx="35053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ier 2 – Strateg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o (teacher)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% Student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9880" y="1447920"/>
            <a:ext cx="16765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ier 3 - Inten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5840" y="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943600" y="5335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yramid of Interven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914400"/>
            <a:ext cx="3352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o (teacher)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% Student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1295280" y="762120"/>
            <a:ext cx="2895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1T19:01:11Z</dcterms:created>
  <dc:creator>setup</dc:creator>
  <dc:description/>
  <dc:language>en-US</dc:language>
  <cp:lastModifiedBy>setup</cp:lastModifiedBy>
  <dcterms:modified xsi:type="dcterms:W3CDTF">2011-03-11T19:04:01Z</dcterms:modified>
  <cp:revision>2</cp:revision>
  <dc:subject/>
  <dc:title>Slide 1</dc:title>
</cp:coreProperties>
</file>